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24C-B251-4BCD-A87D-6252825D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E7ED-0CAC-4ACD-8518-59FC8A5C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EBEB-F768-4D04-AE09-906AF4F0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7B1-ABAA-4C16-B2FC-742C4FBB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89AD-FB1A-42B3-9229-E36F5AB3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A28-AD64-45F8-951E-93C56BE8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4C0-BE07-47F6-AD4B-26CDCBBA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4A19-CFC0-46C0-8B62-9FDD5075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6E49-5F20-4353-8810-A25335B2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ABA-2D7B-4C10-AC57-FFE518B9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713-D0F2-4E68-B92F-416E73F0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914-3344-4FD9-B4CC-A94E0C25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B4CA-8044-42B9-97CE-AFCB0A3253B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2. Június 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3898800" y="425520"/>
            <a:ext cx="1344600" cy="1295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1480" y="4761000"/>
            <a:ext cx="8137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Az Országos Tudományos Diákköri Konferencián, valamint tudományos műhelyein való részvétel és a lebonyolítási fel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ellátása”című NTP-HHTDK-21-0042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1236600" y="439560"/>
            <a:ext cx="153504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Kép 10" descr="http://www.emet.gov.hu/_userfiles/hirek/NTP/ntp_72_rgb.jpg"/>
          <p:cNvPicPr/>
          <p:nvPr/>
        </p:nvPicPr>
        <p:blipFill>
          <a:blip r:embed="rId3"/>
          <a:stretch/>
        </p:blipFill>
        <p:spPr>
          <a:xfrm>
            <a:off x="74772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Kép 11" descr="http://www.emet.gov.hu/_userfiles/hatter_1/emet_logok/%C3%BAj%20logo/emet_logo_szines.jpg"/>
          <p:cNvPicPr/>
          <p:nvPr/>
        </p:nvPicPr>
        <p:blipFill>
          <a:blip r:embed="rId4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Kép 10" descr=""/>
          <p:cNvPicPr/>
          <p:nvPr/>
        </p:nvPicPr>
        <p:blipFill>
          <a:blip r:embed="rId5"/>
          <a:stretch/>
        </p:blipFill>
        <p:spPr>
          <a:xfrm>
            <a:off x="6567480" y="490680"/>
            <a:ext cx="1533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2-05-31T07:35:05Z</dcterms:modified>
  <cp:revision>13</cp:revision>
  <dc:subject/>
  <dc:title>DUNÁNTÚLI MANDULAFA</dc:title>
</cp:coreProperties>
</file>